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0B6C-4C8F-4A71-9C28-D40B0621D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FDDF-3A85-4FCF-B30F-87A8A99C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9EE1-E380-452C-B8CE-EB07B5C94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2FEE-1648-49AC-B1CE-8C9324B91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7D29-9F26-49F5-95B8-88A4C5E83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1E28-64FF-4418-B6E1-0D9605A1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5C5D-2AE1-4907-B73A-9912E224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9E59-95E3-4F46-85A4-FD535121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D28A-1633-4818-86D9-8A9300F0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3CDC-A93C-42A7-B5F5-6CDF8FF6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053F-558B-4D82-9606-88FC1084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821C-073B-4CAA-A9FB-792AA038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9EF3-5F97-4833-8A6C-783A39BA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2BEB-215A-42EE-8436-0E83E888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F686-DC88-493D-B19C-4F3E29F1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8AB5-A9E6-433D-BF1F-D094DDEF9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D6BA-AD5E-4FDB-A9D2-0996617EC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A7A3-205A-469E-B11E-6D571A7D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F088-FB2C-413E-997F-E89AE1C0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EFB4-E312-49BC-9AD4-08763815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6BA3-10AD-4CEF-906D-37E1B4F3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DD72-3002-43C0-B385-02143740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9D95-B99E-4537-B6E9-A35A4DBC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F491-8F27-44F2-BF93-DD94F258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CDFC-1749-4EE7-B279-482029B81B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5613-D027-4B16-A321-912CBBBC0D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6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2000" y="404640"/>
            <a:ext cx="88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РГАНИЗАЦИОННЫЕ ФОРМЫ ТОРГОВ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1965600" cy="1225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900000" y="3429000"/>
            <a:ext cx="2592360" cy="1720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3492360" y="1341360"/>
            <a:ext cx="1855800" cy="2471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5724360" y="1557360"/>
            <a:ext cx="2382840" cy="1787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5867280" y="3789360"/>
            <a:ext cx="1800360" cy="1347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111720" y="5950080"/>
            <a:ext cx="2799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УЧИТЕЛЬ ЭКОНОМИ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МОУ НОВОСЁЛКОВСКАЯ СОШ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ГУЛЯЕВ А.Ф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ТОРГОВЫ АВТОМАТЫ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КРУГЛОСУТОЧНАЯ РАБОТА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СУТСТВИЕ ПЕРСОНА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484360" y="1700280"/>
            <a:ext cx="4216320" cy="4216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0" y="1700280"/>
            <a:ext cx="2892600" cy="4222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6286680" y="1700280"/>
            <a:ext cx="2857320" cy="42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9280" y="476280"/>
            <a:ext cx="86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КАТАЛОГ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ФОТОГРАФИЯ ТОВАРА И ЕГО ОПИС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2736720" cy="3168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203640" y="1125360"/>
            <a:ext cx="2808360" cy="3168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156360" y="3284640"/>
            <a:ext cx="270180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9280" y="476280"/>
            <a:ext cx="86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ИНТЕРНЕТ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92720" y="333360"/>
            <a:ext cx="3095640" cy="1871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627280" y="549360"/>
            <a:ext cx="1944720" cy="288720"/>
          </a:xfrm>
          <a:custGeom>
            <a:avLst/>
            <a:gdLst>
              <a:gd name="textAreaLeft" fmla="*/ 243000 w 1944720"/>
              <a:gd name="textAreaRight" fmla="*/ 1701720 w 194472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2565360"/>
            <a:ext cx="86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ОЧТА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56000" y="2637000"/>
            <a:ext cx="1944720" cy="288720"/>
          </a:xfrm>
          <a:custGeom>
            <a:avLst/>
            <a:gdLst>
              <a:gd name="textAreaLeft" fmla="*/ 243000 w 1944720"/>
              <a:gd name="textAreaRight" fmla="*/ 1701720 w 194472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292720" y="2492280"/>
            <a:ext cx="3095640" cy="2016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08000" y="4653000"/>
            <a:ext cx="86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ТЕЛЕВИДЕНИЕ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00360" y="4724280"/>
            <a:ext cx="1944720" cy="289080"/>
          </a:xfrm>
          <a:custGeom>
            <a:avLst/>
            <a:gdLst>
              <a:gd name="textAreaLeft" fmla="*/ 243000 w 1944720"/>
              <a:gd name="textAreaRight" fmla="*/ 1701720 w 194472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5292720" y="4797360"/>
            <a:ext cx="3095640" cy="18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404640"/>
            <a:ext cx="9142920" cy="5110920"/>
            <a:chOff x="0" y="404640"/>
            <a:chExt cx="9142920" cy="5110920"/>
          </a:xfrm>
        </p:grpSpPr>
        <p:cxnSp>
          <p:nvCxnSpPr>
            <p:cNvPr id="90" name="_s6173"/>
            <p:cNvCxnSpPr>
              <a:stCxn id="91" idx="1"/>
              <a:endCxn id="92" idx="2"/>
            </p:cNvCxnSpPr>
            <p:nvPr/>
          </p:nvCxnSpPr>
          <p:spPr>
            <a:xfrm rot="10800000">
              <a:off x="4570920" y="1681560"/>
              <a:ext cx="653760" cy="319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" name="_s6171"/>
            <p:cNvCxnSpPr>
              <a:stCxn id="94" idx="3"/>
              <a:endCxn id="92" idx="2"/>
            </p:cNvCxnSpPr>
            <p:nvPr/>
          </p:nvCxnSpPr>
          <p:spPr>
            <a:xfrm flipV="1">
              <a:off x="3918240" y="1681560"/>
              <a:ext cx="653760" cy="319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" name="_s6170"/>
            <p:cNvCxnSpPr>
              <a:stCxn id="96" idx="1"/>
              <a:endCxn id="92" idx="2"/>
            </p:cNvCxnSpPr>
            <p:nvPr/>
          </p:nvCxnSpPr>
          <p:spPr>
            <a:xfrm rot="10800000">
              <a:off x="4570920" y="1681560"/>
              <a:ext cx="653760" cy="128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7" name="_s6169"/>
            <p:cNvCxnSpPr>
              <a:stCxn id="98" idx="3"/>
              <a:endCxn id="92" idx="2"/>
            </p:cNvCxnSpPr>
            <p:nvPr/>
          </p:nvCxnSpPr>
          <p:spPr>
            <a:xfrm flipV="1">
              <a:off x="3918240" y="1681560"/>
              <a:ext cx="653760" cy="128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2" name="_s6165"/>
            <p:cNvSpPr/>
            <p:nvPr/>
          </p:nvSpPr>
          <p:spPr>
            <a:xfrm>
              <a:off x="2612160" y="40464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ahoma"/>
                </a:rPr>
                <a:t>МАГАЗИНЫ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6166"/>
            <p:cNvSpPr/>
            <p:nvPr/>
          </p:nvSpPr>
          <p:spPr>
            <a:xfrm>
              <a:off x="0" y="232128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УНИВЕРСАЛЬНЫЙ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6167"/>
            <p:cNvSpPr/>
            <p:nvPr/>
          </p:nvSpPr>
          <p:spPr>
            <a:xfrm>
              <a:off x="5224680" y="232128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СПЕЦИАЛИЗИ-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РОВАННЫЙ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6168"/>
            <p:cNvSpPr/>
            <p:nvPr/>
          </p:nvSpPr>
          <p:spPr>
            <a:xfrm>
              <a:off x="0" y="423792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ФИРМЕННЫЙ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_s6172"/>
            <p:cNvSpPr/>
            <p:nvPr/>
          </p:nvSpPr>
          <p:spPr>
            <a:xfrm>
              <a:off x="5224680" y="423792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САМООБСЛУЖИ-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ВАНИЯ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81880" y="488880"/>
            <a:ext cx="646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УНИВЕРСАЛЬНЫ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РГУЕТ ТОВАР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ЗНОГО НА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4005360"/>
            <a:ext cx="4248000" cy="2754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24000" y="1341360"/>
            <a:ext cx="4319280" cy="2641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572000" y="4005360"/>
            <a:ext cx="4392720" cy="2728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572000" y="1341360"/>
            <a:ext cx="439272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ПЕЦИАЛИЗИРОВАННЫ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РГУЕТ ТОВАР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ДИНАКОВОГО НА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3314520" cy="2521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003640" y="1628640"/>
            <a:ext cx="3579840" cy="2521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771640" y="4221000"/>
            <a:ext cx="3529080" cy="24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ФИРМЕННЫ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РГУЕТ ТОВАР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ДНОЙ ФИР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195640" y="1341360"/>
            <a:ext cx="4321080" cy="3048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9280" y="3860640"/>
            <a:ext cx="4000680" cy="2778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4427640" y="3860640"/>
            <a:ext cx="403380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АМООБСЛУЖИВАНИ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ДОСТУПНОСТЬ ТОВАР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ЛЯ ПОКУПА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3600360" cy="2305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700360" y="2997360"/>
            <a:ext cx="3457440" cy="2447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651640" y="4405320"/>
            <a:ext cx="3492360" cy="24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476280"/>
            <a:ext cx="868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БИРЖ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СДЕЛКИ ЗАКЛЮЧАЮТСЯ ЧЕРЕЗ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СРЕДНИКОВ-БРОКЕР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ОВАР ПРОДАЁТСЯ БОЛЬШИМ ОП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08000" y="1989000"/>
            <a:ext cx="4751280" cy="3816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427640" y="1989000"/>
            <a:ext cx="4562280" cy="3810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79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476280"/>
            <a:ext cx="868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АУКЦИОН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ВАР ПОЛУЧАЕТ ТОТ, КТО БОЛЬШЕ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ПЛАТИ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564000" y="1413000"/>
            <a:ext cx="5333760" cy="3571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08000" y="3429000"/>
            <a:ext cx="4895640" cy="32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ЯРМАРК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ПЕРИОДИЧЕСКИ ОРГАНИЗУЕМАЯ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ПРЕДЕЛЁННОМ МЕСТЕ ТОРГОВ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33200" y="1498680"/>
            <a:ext cx="8877600" cy="5170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2400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12:38:29Z</dcterms:created>
  <dc:creator>Customer</dc:creator>
  <dc:description/>
  <dc:language>en-US</dc:language>
  <cp:lastModifiedBy>КарМаН</cp:lastModifiedBy>
  <dcterms:modified xsi:type="dcterms:W3CDTF">2012-02-07T11:56:36Z</dcterms:modified>
  <cp:revision>3</cp:revision>
  <dc:subject/>
  <dc:title>Слайд 1</dc:title>
</cp:coreProperties>
</file>